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4BF-197A-4DD1-8C3A-52A91836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62C-3FCC-4539-904C-B68A63AC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4A6-FA62-4B77-9035-ADEC43A6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E9AC-D669-4835-8ED6-2A169B55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E54-3320-4684-8EF2-5E1FC274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AF8-5E6A-4EE8-9913-D28FB8D0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32F-5632-4167-A60A-DF7FCDC3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20E7-6D46-449C-95F5-8EBABDAB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28A-847E-4462-AEBC-10A8CE0D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9E0-5DF7-4AA2-8828-0C94C7FA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9B7-9D7D-417D-98CA-934A8082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826-AB92-4E0A-9050-2837D87F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C179-7E3E-4219-8E42-B12FC17EE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5807" r="0" b="0"/>
          <a:stretch/>
        </p:blipFill>
        <p:spPr>
          <a:xfrm>
            <a:off x="1627200" y="0"/>
            <a:ext cx="539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Pierre-Auguste Renoir. At the Inn of Mother Anthony."/>
          <p:cNvPicPr/>
          <p:nvPr/>
        </p:nvPicPr>
        <p:blipFill>
          <a:blip r:embed="rId1"/>
          <a:stretch/>
        </p:blipFill>
        <p:spPr>
          <a:xfrm>
            <a:off x="2317680" y="0"/>
            <a:ext cx="450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ierre-Auguste Renoir. A Morning Ride in the Bois de Boulogne."/>
          <p:cNvPicPr/>
          <p:nvPr/>
        </p:nvPicPr>
        <p:blipFill>
          <a:blip r:embed="rId1"/>
          <a:stretch/>
        </p:blipFill>
        <p:spPr>
          <a:xfrm>
            <a:off x="1947960" y="338040"/>
            <a:ext cx="524808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41:26Z</dcterms:created>
  <dc:creator>Patrick J. Mooney</dc:creator>
  <dc:description/>
  <dc:language>en-US</dc:language>
  <cp:lastModifiedBy>Patrick J. Mooney</cp:lastModifiedBy>
  <dcterms:modified xsi:type="dcterms:W3CDTF">2010-04-22T14:33:48Z</dcterms:modified>
  <cp:revision>4</cp:revision>
  <dc:subject/>
  <dc:title>Slide 1</dc:title>
</cp:coreProperties>
</file>